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41093"/>
        <c:axId val="40762441"/>
      </c:barChart>
      <c:catAx>
        <c:axId val="30241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2441"/>
        <c:crosses val="autoZero"/>
        <c:auto val="1"/>
        <c:lblAlgn val="ctr"/>
        <c:lblOffset val="100"/>
        <c:noMultiLvlLbl val="0"/>
      </c:catAx>
      <c:valAx>
        <c:axId val="40762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41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CE6-B663-4C0D-B327-66EE53FA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16A-E0FD-4588-8314-A26F1346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014-14C4-43EE-ABAC-D2FAF03C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D04-4E5E-4A0E-A37B-B3A17094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AAE-7665-4528-8FAA-0B921FA7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FC9-834F-49EC-AEB5-9A8D0FE4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047-7F56-4658-962D-D930A16B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704-83B5-47CF-8A17-359EA4E4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35C-101E-476D-92F5-0AC3E46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14C-B871-4EB3-97E6-77E3619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2A4-4F5A-4744-BEFD-7565E41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A7D-B630-43BD-A30F-E5585FC7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48D35-9FF8-4AEF-AB13-A71B1A8A23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