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32131"/>
        <c:axId val="13889063"/>
      </c:barChart>
      <c:catAx>
        <c:axId val="15932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89063"/>
        <c:crosses val="autoZero"/>
        <c:auto val="1"/>
        <c:lblAlgn val="ctr"/>
        <c:lblOffset val="100"/>
        <c:noMultiLvlLbl val="0"/>
      </c:catAx>
      <c:valAx>
        <c:axId val="13889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32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357-5FA4-4F92-905D-5EC05EC7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AA9-AE40-450D-857A-7123B65E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192-C879-4EC2-BFDA-C8DAC92E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82C-B0F5-4C17-9872-38D3A1FA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9A7-020A-4C54-8103-2CA0E82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D1F-8975-4B8B-AE56-CD574220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F03-908A-4393-B3D5-EB01864E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30E-4AA3-42F8-B5B6-D53FE9FD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8F1-28E4-4CF6-A1EA-01463B42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8F0-1F9B-40E0-8CE4-8F8F979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A66-EFB8-497C-B509-FCBE99E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E45-FF67-4269-9A9D-1670C3E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D69C-5F33-48A7-B747-7DB8F7EBF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