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43185"/>
        <c:axId val="37248845"/>
      </c:barChart>
      <c:catAx>
        <c:axId val="28143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8845"/>
        <c:crosses val="autoZero"/>
        <c:auto val="1"/>
        <c:lblAlgn val="ctr"/>
        <c:lblOffset val="100"/>
        <c:noMultiLvlLbl val="0"/>
      </c:catAx>
      <c:valAx>
        <c:axId val="37248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3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839-A118-4A42-9C67-12E7B9E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A43-9064-4DED-BCB3-D2F77855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AC4-DADB-4249-A291-3B62E4B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7ED-7B82-4DC8-B9B6-DF214ACA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63C-9E28-4D89-BE8D-C4F372A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06C-D082-46E2-AD27-710DFA0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6FB-2CD7-46EA-B9B9-1A89363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239-B108-462D-A39C-5A63EF8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E6E-A408-4E98-9A14-F4DE6FF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9C9-C396-467B-9492-10734C9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040-0AAB-47EF-86E7-34CD410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76A-A9EE-4492-864D-2C50796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5E6C4-FF83-4911-B2B9-AD46B4C6D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