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65002"/>
        <c:axId val="92949059"/>
      </c:barChart>
      <c:catAx>
        <c:axId val="82365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9059"/>
        <c:crosses val="autoZero"/>
        <c:auto val="1"/>
        <c:lblAlgn val="ctr"/>
        <c:lblOffset val="100"/>
        <c:noMultiLvlLbl val="0"/>
      </c:catAx>
      <c:valAx>
        <c:axId val="92949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5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C04-614D-4BB9-AFCE-F5795493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4BA-1460-4A97-8CD6-B6C67DE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9F5-D9A9-46C5-8D4F-43AD4BB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099-8345-47F8-98F8-27F62D8C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77F-ED26-4B13-AF6B-E06A31C1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EB2-BC54-4F1A-80D2-49AC9DD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845-D2BC-475A-BFC0-C50A569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47E-E59F-49DC-8380-461A992C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D29-420B-4DFC-9431-0979AE73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3EF-E097-4F97-BDA7-56F4A5C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560-132C-4E07-B657-094CC27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D6B-15C2-42C0-A3D0-8E1B435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C15F-5C21-4C08-AB71-812CF95C9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