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888624"/>
        <c:axId val="1657582"/>
      </c:barChart>
      <c:catAx>
        <c:axId val="538886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7582"/>
        <c:crosses val="autoZero"/>
        <c:auto val="1"/>
        <c:lblAlgn val="ctr"/>
        <c:lblOffset val="100"/>
        <c:noMultiLvlLbl val="0"/>
      </c:catAx>
      <c:valAx>
        <c:axId val="16575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886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07E0-4F54-4C23-ABB5-5CFBC86D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747C-03A1-4F9F-8572-D67AFE25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4F74-83DD-4022-9E76-0F2C0417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13ED-FB80-4264-B0BB-E4B8F633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949E-5DE3-4B5C-92EE-215A1CC4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058F-8922-44CC-B633-A7369AC3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D6A6-46EB-4348-979F-30391568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BBA-8BC3-4DC4-8C85-5FB363A6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DF10-2C26-44D8-B817-26391DA2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8521-EC26-41EA-8681-D79888D4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A376-B362-4AD4-8BB0-2BA420B2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C915-C90D-42D0-AD24-DAFF2BA2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F60DB-ED1A-48DB-A546-AB9025BF29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