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77570"/>
        <c:axId val="24864375"/>
      </c:barChart>
      <c:catAx>
        <c:axId val="48877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64375"/>
        <c:crosses val="autoZero"/>
        <c:auto val="1"/>
        <c:lblAlgn val="ctr"/>
        <c:lblOffset val="100"/>
        <c:noMultiLvlLbl val="0"/>
      </c:catAx>
      <c:valAx>
        <c:axId val="24864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77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6FE-1A60-4981-B152-F7D368A5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B98-3FBE-41C0-9383-E1EF98A2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925-CAF7-4D26-857C-6ACAADC0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FBF-4B40-4F84-A53D-D738C673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20E-D0D1-4CB9-8081-CBC1F722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C61-BCD5-47B5-A731-AF73FDD8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28C-2EF5-429A-B9BF-2FFAA603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148-EFA2-4D40-BD40-6A4B7A6A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333-25CF-4C10-9391-E963D3B8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D74-B55C-481A-8F2A-769C2F04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CE7-E6E0-4EB4-B4FF-C4892B3C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666-8D9A-4635-8BE9-E334ED0A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85B63-0E60-4744-9A8B-37222C1462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