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53507"/>
        <c:axId val="43464172"/>
      </c:barChart>
      <c:catAx>
        <c:axId val="80853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4172"/>
        <c:crosses val="autoZero"/>
        <c:auto val="1"/>
        <c:lblAlgn val="ctr"/>
        <c:lblOffset val="100"/>
        <c:noMultiLvlLbl val="0"/>
      </c:catAx>
      <c:valAx>
        <c:axId val="43464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53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7AD-4538-4534-B444-43D2EE81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8ED-D590-4F80-9298-7BD5977E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C23-FC8F-444F-BBC5-E614F2DE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C38-CFC4-499B-A563-80BB7D8F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A5C-8720-4815-95A2-D4E94D6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48B-2DA2-43F3-83D6-A4B2BF8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259-D02E-4BA1-B331-67A1075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E51-8290-47FE-A826-CA4143B9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2B5-0D2A-4494-BB82-B949102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B27-3BC8-4F6C-AA35-AB003F8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A84-CC7D-40C8-A743-2965741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613-A336-4D41-9394-4C7272B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81B4B-0FE0-4F93-B311-33E8F75D0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