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956184"/>
        <c:axId val="10224019"/>
      </c:barChart>
      <c:catAx>
        <c:axId val="65956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24019"/>
        <c:crosses val="autoZero"/>
        <c:auto val="1"/>
        <c:lblAlgn val="ctr"/>
        <c:lblOffset val="100"/>
        <c:noMultiLvlLbl val="0"/>
      </c:catAx>
      <c:valAx>
        <c:axId val="102240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56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FA33-27E1-4CD9-89EC-DFADE541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ED8A-B925-43A4-AC0C-18486FD6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37AE-1604-4E2A-98D8-341F49DF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743-022F-4D6E-BA9E-5DFA8C20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216-86AE-4CBC-92E2-E8037E06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9CE-DCF3-4C47-8265-9B8AAFB4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EE91-42B7-4313-B9A6-32AC9842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969-D6CB-4B0E-A383-23B745BE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D03C-2884-4B67-8E00-2EFF162E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5FA-BE8A-40E4-9AB6-90B1151A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4AA-F998-43DB-8AFE-8A2EC72F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1E0D-B853-4680-BDCF-7741683E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EAE3D-0261-4428-A064-9D0DD284C0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