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94142"/>
        <c:axId val="59134058"/>
      </c:barChart>
      <c:catAx>
        <c:axId val="888941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34058"/>
        <c:crosses val="autoZero"/>
        <c:auto val="1"/>
        <c:lblAlgn val="ctr"/>
        <c:lblOffset val="100"/>
        <c:noMultiLvlLbl val="0"/>
      </c:catAx>
      <c:valAx>
        <c:axId val="59134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941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EC1-C776-42FC-94E3-FAAA105C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1B2-0C15-49F4-B520-B228CBA2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1AE-B674-4524-A777-6E887E48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C04-95F0-4D5D-AAE2-D11A952E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BB6-0A45-4C4F-A50C-20991811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89C0-BAAE-4C33-8668-A4FCC74B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B9F-DD84-453B-A2BB-F2F8AF62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421-E807-47C2-B221-247FDD9D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D0D-0163-41EB-8DA0-66BFE842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4327-BC43-4347-9B9B-09C23C67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B71-AC98-4E63-B609-D74664B4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8368-415C-41CE-9266-77BA9E42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94278-EC46-4A66-A1F8-F3F81D0EDC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