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46419"/>
        <c:axId val="63764969"/>
      </c:barChart>
      <c:catAx>
        <c:axId val="75446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64969"/>
        <c:crosses val="autoZero"/>
        <c:auto val="1"/>
        <c:lblAlgn val="ctr"/>
        <c:lblOffset val="100"/>
        <c:noMultiLvlLbl val="0"/>
      </c:catAx>
      <c:valAx>
        <c:axId val="63764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46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9A1-3F11-4B84-8DD2-422D7CA6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BC1-7558-4111-AFDA-38F6F49D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794-F681-4F8E-9F6F-24C3E403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2E7-4C5C-43A8-92FE-98062E5B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B75-642D-43E1-99F9-5E1AC460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CE0-BDD2-4B3B-9371-036CB371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F35-BFF1-48A6-ACA2-AC540B83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0F3-AC97-44C9-8CDF-3D257C4B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114-43A0-4871-BD6E-B4684002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7CF-3FB5-4347-9559-4584BD13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09B-28DD-499D-AE8D-53ACA8D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867-C6CE-4774-A3FA-3316F4CB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2A75C-6DFD-4A0C-9AB2-9F11FA884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