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97330"/>
        <c:axId val="60566457"/>
      </c:barChart>
      <c:catAx>
        <c:axId val="39797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66457"/>
        <c:crosses val="autoZero"/>
        <c:auto val="1"/>
        <c:lblAlgn val="ctr"/>
        <c:lblOffset val="100"/>
        <c:noMultiLvlLbl val="0"/>
      </c:catAx>
      <c:valAx>
        <c:axId val="60566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97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E9D-2B3C-49D4-AA4C-1C31CB15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5C5-EA49-4267-BCFF-E43A8852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814-AA4A-4449-A4E7-1C3BBEC1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1AF-B39F-4B87-AD69-9AC58E3B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0EC-B908-4D56-9346-C88BF7B7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71C-4B59-4DA8-831D-FBF4FCA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1A5-6C29-4697-BF05-EC57FA9B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F44-FDDD-4B58-8538-3FBAA071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F47-0AE5-4339-9221-1BB713D9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B1D-99E3-43D8-A2AF-1026E9DA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F63-4547-446B-84C5-B801A4DE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A0A-FC87-4A5C-A849-4957B16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12C6D-DA49-45B4-9519-0F5F8A3DCF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