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05954"/>
        <c:axId val="74486320"/>
      </c:barChart>
      <c:catAx>
        <c:axId val="98005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86320"/>
        <c:crosses val="autoZero"/>
        <c:auto val="1"/>
        <c:lblAlgn val="ctr"/>
        <c:lblOffset val="100"/>
        <c:noMultiLvlLbl val="0"/>
      </c:catAx>
      <c:valAx>
        <c:axId val="74486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5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909-7599-4705-B268-668A0F5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302-DA00-406B-9C64-942113E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8CF-F7A4-41D9-9114-C995EAA8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B96-E005-4D77-B783-7AB2F52C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51C-AC4E-499E-980F-0B9642E3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DCA-46CD-44E9-BC0F-0CA5C16C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5CF-F4F3-485F-82C4-31655817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604-1344-42E1-999C-E7B724C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E93-B434-4D56-A6B7-7A1996A3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17F-11E6-4BA0-A24F-C1A9812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BF9-BF2E-4C51-A204-5ED90221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957-962D-4184-976E-1C99E827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A8AA-ABB8-48D6-83A1-32E853D94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