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82884"/>
        <c:axId val="52690961"/>
      </c:barChart>
      <c:catAx>
        <c:axId val="75982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90961"/>
        <c:crosses val="autoZero"/>
        <c:auto val="1"/>
        <c:lblAlgn val="ctr"/>
        <c:lblOffset val="100"/>
        <c:noMultiLvlLbl val="0"/>
      </c:catAx>
      <c:valAx>
        <c:axId val="52690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82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892-A695-48B1-A891-D1FAB26D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06D-8972-46A2-8F25-F6E7C92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D07-0F42-4048-A62D-99BA81FA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498-61FD-4EF1-A707-42F774E0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68A-A732-4353-9200-AAF6860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A46-3802-4B80-A8C2-3CC608FA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64D-DE05-4A6E-AEC2-88D58BE3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0C6-939D-404F-B197-2B0CD50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28F-FA2A-4ACD-B064-8614D96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94B-C6A8-447F-A0F6-F6C6319A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E14-73DA-4C8B-86B6-AF8ACAF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BBD-36BA-46C0-A5B4-0CE0D98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A8CA-000F-482D-8674-A120A8685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