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71196"/>
        <c:axId val="85345644"/>
      </c:barChart>
      <c:catAx>
        <c:axId val="884711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45644"/>
        <c:crosses val="autoZero"/>
        <c:auto val="1"/>
        <c:lblAlgn val="ctr"/>
        <c:lblOffset val="100"/>
        <c:noMultiLvlLbl val="0"/>
      </c:catAx>
      <c:valAx>
        <c:axId val="85345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711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3F8-0D79-47D6-9804-3306B0A5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263D-4F02-4AC9-83E0-E5935555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80C-650F-4B9C-83AE-03EFA5DA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38D6-1A9B-4283-922A-E0E6FC8A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B219-ACE4-4F0E-80EE-D0A3C2ED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DAF-0C9F-45A9-8015-C8CDF773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B180-D148-4C70-A82B-060EC257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882C-3D1F-4348-A2C9-6A72C70C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314-8563-43AA-BF50-B5709F4B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A30C-E003-4123-B266-9397F5F9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CBCE-088A-41E0-99EC-8180759E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B562-1CDC-45DE-BF8E-2E679D05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D2C69-761B-4CE4-A369-4AC9FC5610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