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33832"/>
        <c:axId val="84597644"/>
      </c:barChart>
      <c:catAx>
        <c:axId val="52633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97644"/>
        <c:crosses val="autoZero"/>
        <c:auto val="1"/>
        <c:lblAlgn val="ctr"/>
        <c:lblOffset val="100"/>
        <c:noMultiLvlLbl val="0"/>
      </c:catAx>
      <c:valAx>
        <c:axId val="84597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33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CA1-730E-414E-B862-2589828D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642-15EE-4927-AF90-2CCA9418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520-0D63-499D-AA97-9A455455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10E-3B56-4E7C-B829-F7B80527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DFE-A715-4E31-A329-E281FE5F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57C-39A6-423B-95FE-DAE41CD9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11C-CEEF-4856-A68F-CF7E41FA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2F5-817D-46A6-B3A0-26BE86FB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776-1AF6-4E5B-8DAC-8D379DCD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7A8-0F4A-4A4A-9F60-E884AC4A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0C1-6B58-4601-BD82-803C2D4C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4A7-2BF2-48DB-A155-B102D4A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E45B4-EF5E-4033-9EF6-5648624483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