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35837"/>
        <c:axId val="18346000"/>
      </c:barChart>
      <c:catAx>
        <c:axId val="31135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6000"/>
        <c:crosses val="autoZero"/>
        <c:auto val="1"/>
        <c:lblAlgn val="ctr"/>
        <c:lblOffset val="100"/>
        <c:noMultiLvlLbl val="0"/>
      </c:catAx>
      <c:valAx>
        <c:axId val="18346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5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85F-3342-4F29-A98B-742B3BB9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70F-9ABA-46E7-904F-E0748F0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1CB-7E97-4EF1-84CA-AEBDC423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D69-9D2E-4661-AC9B-1A52547E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88D-A22D-427B-B2B6-DB01EB5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0C1-4DE9-4E26-A52E-38F0C4EA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DA6-E252-499C-98D4-9370760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6A8-7BF3-46C3-B720-3E6746C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C1E-A6AE-45C5-A1B3-12E56BD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0DB-4B75-4060-8999-A5C0AB5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DF-F0AF-4E1F-920A-4C2940CB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DD5-612B-4DC4-8A4F-914E1B7C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8F1D2-F8B7-49DD-99E6-55F86F807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