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682363"/>
        <c:axId val="59900534"/>
      </c:barChart>
      <c:catAx>
        <c:axId val="546823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900534"/>
        <c:crosses val="autoZero"/>
        <c:auto val="1"/>
        <c:lblAlgn val="ctr"/>
        <c:lblOffset val="100"/>
        <c:noMultiLvlLbl val="0"/>
      </c:catAx>
      <c:valAx>
        <c:axId val="599005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6823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8FDD-F7CD-4296-8979-488F39718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D1C8-0608-4313-AB9C-24B320F7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8441-CBE5-417D-B39C-756C2F75B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EB4C-A77B-488E-973D-3DF450886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A2C2-2F7E-479F-93B9-E27A7881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DCBF-E508-40D4-BFB2-89B314CC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155F-D06E-4F09-B035-A3D89A40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7BA4-8237-483B-BFDB-033E1D03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E7D9-AC57-4243-B9FD-FB4C8419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584C-9C9B-49CD-8185-E8E99479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DC2A-7CA6-46FD-9360-C3E45321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5D7E-D927-4753-803D-024C29EB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F435E8-57A7-4023-B34F-5ACF4EE330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