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8673360"/>
        <c:axId val="19719238"/>
      </c:barChart>
      <c:catAx>
        <c:axId val="2867336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719238"/>
        <c:crosses val="autoZero"/>
        <c:auto val="1"/>
        <c:lblAlgn val="ctr"/>
        <c:lblOffset val="100"/>
        <c:noMultiLvlLbl val="0"/>
      </c:catAx>
      <c:valAx>
        <c:axId val="1971923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67336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62616-CCAD-44BB-9C75-CF37E4DF0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CB432-730A-4D57-BBDC-A25C90C4E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7C3BF-5C93-4058-A5D2-992F836D5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CB121-9608-46E6-883F-5854B5B72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7BF23-DF15-4AD8-AAD5-B5F9C9327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06BDA-CF88-4CB8-B589-D97B99D9F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21999-2B72-4BEE-9EE9-732C4852F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B3EEA-0C99-446E-B3D5-19CA915DB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87FD3-F3F4-4EC7-8A1D-84D3825C0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D7A03-37B1-4322-B94C-8B52D4F13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E5A50-D63B-498B-80F3-3D153898D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DC42E-4625-4317-88AA-71AC798FB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25BC2F-870F-4DF4-A6F6-F29EE4C7E40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