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20291"/>
        <c:axId val="65211511"/>
      </c:barChart>
      <c:catAx>
        <c:axId val="16720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11511"/>
        <c:crosses val="autoZero"/>
        <c:auto val="1"/>
        <c:lblAlgn val="ctr"/>
        <c:lblOffset val="100"/>
        <c:noMultiLvlLbl val="0"/>
      </c:catAx>
      <c:valAx>
        <c:axId val="65211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20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F24-5026-4D09-9E58-D1FE6708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D47-B18D-410D-8975-BDF146DB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AD7-C7CE-4DCF-B5FB-6C32972D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650-EB5A-448F-94FB-2FB886AF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702-7217-43F9-A9B9-283DD8D9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5B6-727C-412C-B470-4C77E541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4F1-D522-4194-8309-C8B26CAE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4B4-FF9A-476D-A525-254764B8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8BB-390D-493D-8FB8-3FCCC901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DF8-8C7C-4A4F-8A58-461D08CD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BEF-04E8-440F-ACD4-9E71D5F3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703-CAEA-470A-A3C1-EE5F10D0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E61DB-FD79-4AB9-9D75-4CF7C99D17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