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36414"/>
        <c:axId val="74250432"/>
      </c:barChart>
      <c:catAx>
        <c:axId val="94836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50432"/>
        <c:crosses val="autoZero"/>
        <c:auto val="1"/>
        <c:lblAlgn val="ctr"/>
        <c:lblOffset val="100"/>
        <c:noMultiLvlLbl val="0"/>
      </c:catAx>
      <c:valAx>
        <c:axId val="74250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36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9FBD-A4EE-44B8-AEFE-9C57AA95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CA1-DFA5-4D58-85DE-AEC342C0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80B-2313-4F1E-A3CD-77F00E71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662-FC93-4AC1-878D-609F3CBA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B0F-CB36-44EE-8CD7-2898B638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B40-177E-4238-867E-FD7F892E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980-A38F-40F8-A9DB-1E7B9078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97C5-F0C5-4F5E-8002-0DFD6B24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2A0-D4FF-478F-8288-C5656287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416-E8DC-42A4-9CB0-351D81E0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660B-934A-4B0E-A7C0-AD13F33D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0D3-4948-4DE0-B428-628499B0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3AA76-ACE7-4994-8E50-8F33B25037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